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B3A9-D74B-442F-9F27-0334BC1E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516-A6F9-445D-8FC8-96CF9BAB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CF4C-B3AE-4912-AB88-6B06A19E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0C6-34EA-4628-9698-821CF05D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A888-8CDC-42D0-9188-A74533D4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8627-0B0C-403A-AEA8-38495E59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A98B-EA2A-4894-A903-B6664989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67BC-90E5-47AF-9098-51E6BF4F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68D7-2F78-446E-8E1C-A10E9540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5F6B-B968-4DCB-B8BD-17FFABE9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34B7-F3DA-40DB-A98D-F178A29B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8ADE-091D-437F-AC7F-94C84AC0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D1F9-5429-4EF6-8D5C-6190B4A8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7CB6-5B28-4A68-8F4A-0F8D502A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5E18-F78C-4371-BF0B-0822AA40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313A-5B46-446E-AD79-DF50E128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5A47-36D9-478B-B55B-71C807FB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90E5D-0774-4479-93DE-6E215D0E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178AC-702F-43D2-A3C6-23D2ECE4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B2340-6FF2-478E-821B-397A255A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84AB15-56A2-4FA0-8793-8B88C948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C39EE-B610-4C00-B831-4DF7EFB7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42F8-797A-4EAF-9DF4-ACF3EFA0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F130C-C99D-4992-B1B2-069F5501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2FA39B-96D7-4FA7-9AF0-46265882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8BA08-79D1-4CE5-B344-2E5DE2DA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7E893-AAE4-4C3B-B84B-EF8F86DE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43DB5C-551A-4566-AE6F-98816EE9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36F98E-0D3A-4A0C-AD5F-013B5180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12191-4266-4173-AE1A-BF99DA0B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AF97D-4A4A-4EF9-B368-4BD754C5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A44BD-0717-418B-A95A-DFE4BA06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C4702-AD5F-44CF-8F29-B14DE465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D1C2-7DF4-488B-A76F-D050E902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00D13-EAEA-4FF9-945F-27027515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1A9DA-B4C9-42BE-A774-47FAC0D2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14000-61AB-4649-B9D4-D301B2C2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DBD9F-54DE-4E57-9FC0-6989327B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F5785-1CA1-47D8-83CB-708B271F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A9CC7-A524-4D4E-BF99-E3DE97C4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CCA5B-A9A5-4218-8E8D-0671CB94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C22AA-1441-4D14-B595-87B23FF8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48582-E023-47CF-80AB-7CA6257A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30D627-923B-4ED6-A734-5698250D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32DB-9F88-424C-BFB2-407DE5F8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2957E1-4D4F-4038-B64D-78D2BAF3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60CB4B-6777-4DA7-9DAB-851BCBB5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0D2D95-B163-455A-9B2B-DDA96060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76A999-E9F3-4EC3-B283-9F2A6C6E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8FAC60-C4CD-4A17-A7D7-99732EBA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C15001-9A56-479C-B126-A82CDF79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1D1231-3B10-448E-B216-F23FED00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FA1E7A-2E63-4EC7-AB29-1226A07D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8C6668-ADDD-4FE6-A433-46D1235B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DD4934-1EA4-4CA2-AD09-37ABCFCD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6172-9896-42EF-A5BF-C5A6BF00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09CB80-7BCE-4A9D-8836-EF4200E8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08E8FB-29AB-423A-AD64-4FDDB543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935F0B-268F-4DAF-8B96-9D77DFF6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86497B-84BD-4BA0-B6A0-364EF6E2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FD758F-1BD4-47AD-A4CE-DD87C3FB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B5625D-180A-4872-9B47-0BE5E4F7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1C8A0D-B225-41EE-A79F-93548923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0950B6-986E-4D23-BB69-D4DBB5ED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2DFF8E-D377-40E1-A474-8D0735E6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DAE9D4-FF21-40E0-A9B9-495EC8BB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1071-106F-4F08-9FC4-80DBA18A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169566-13EB-404A-87A6-21CE4FDB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C4FDFD-B902-4DB5-9CDE-D7032F99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922C81-2314-443A-BADF-E6EDF6FC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D760E6-B2A4-4022-87D3-F67976C7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6B081C-1375-47DE-AF2B-C94B71AF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1374F5-F537-4E5B-AAB1-269C9E5A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BF41E9-37AE-43C0-BEEE-3C18F8F1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EC6FA2-B712-4CB6-816C-A769B0C3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79CA6D-9CA9-4A87-B670-4CD3DC7B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5C3A02-B664-4EAF-A02C-97189466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AC33-3286-48D2-9B77-95C3DFBE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DE91F7-C55E-436B-A16C-3D200AB0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828A82-E640-4A0C-AAB2-BC822926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1DE3BF-F3C6-4853-A75A-B869D121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BA6F42-8145-4FB5-AFC5-C829ED32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AEE08E-E50A-4996-877E-AEC3FD81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F0B5-E917-4032-BF22-C04DC4F8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89CC-3E54-4D66-A901-5E84EE87B13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7CF0-03C8-4DBD-BCAC-A7A3421FA95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C2F7-BE73-470B-9928-46C0647B80E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B95F-84BA-4730-A7E8-7225D296EB8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3830-430A-40AB-87C7-E1F7D9A7A22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51DA-A70D-4E53-BEA4-3E45296FCD7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6BFE-168F-45D6-BC08-AFD60E5ADDB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85960" y="1785960"/>
            <a:ext cx="550080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 Black"/>
              </a:rPr>
              <a:t>ДАКТИЛЬНЫЙ </a:t>
            </a:r>
            <a:br>
              <a:rPr sz="6000"/>
            </a:br>
            <a:r>
              <a:rPr b="1" lang="ru-RU" sz="6000" spc="-1" strike="noStrike">
                <a:solidFill>
                  <a:srgbClr val="0070c0"/>
                </a:solidFill>
                <a:latin typeface="Arial Black"/>
              </a:rPr>
              <a:t>АЛФАВИТ</a:t>
            </a:r>
            <a:endParaRPr b="0" lang="en-US" sz="60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352" name="Picture 9" descr="В украинских школах для слабослышащих введут уроки языка жестов - МедНовости - MedPortal.ru"/>
          <p:cNvPicPr/>
          <p:nvPr/>
        </p:nvPicPr>
        <p:blipFill>
          <a:blip r:embed="rId1"/>
          <a:stretch/>
        </p:blipFill>
        <p:spPr>
          <a:xfrm>
            <a:off x="7429680" y="571680"/>
            <a:ext cx="1056960" cy="2857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53" name="Picture 2" descr="http://www.cogita.ru/grazhdanskaya-aktivnost/konkurs-grazhdanskoe-obschestvo-i-reshenie-socialnyh-problem-v-evrope/valentina-lebedeva.-v-poiskah-obschego-yazyka/image_preview"/>
          <p:cNvPicPr/>
          <p:nvPr/>
        </p:nvPicPr>
        <p:blipFill>
          <a:blip r:embed="rId2"/>
          <a:stretch/>
        </p:blipFill>
        <p:spPr>
          <a:xfrm>
            <a:off x="7429680" y="3500280"/>
            <a:ext cx="1143000" cy="1219320"/>
          </a:xfrm>
          <a:prstGeom prst="rect">
            <a:avLst/>
          </a:prstGeom>
          <a:ln w="0">
            <a:noFill/>
          </a:ln>
        </p:spPr>
      </p:pic>
      <p:sp>
        <p:nvSpPr>
          <p:cNvPr id="354" name="Подзаголовок 2"/>
          <p:cNvSpPr/>
          <p:nvPr/>
        </p:nvSpPr>
        <p:spPr>
          <a:xfrm>
            <a:off x="2214720" y="5143680"/>
            <a:ext cx="635796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Schoolbook"/>
                <a:ea typeface="Arial"/>
              </a:rPr>
              <a:t>Сурдопедагог Волчкова А.В.                         </a:t>
            </a:r>
            <a:r>
              <a:rPr b="1" lang="ru-RU" sz="1900" spc="-1" strike="noStrike">
                <a:solidFill>
                  <a:srgbClr val="0070c0"/>
                </a:solidFill>
                <a:latin typeface="Century Schoolbook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70c0"/>
                </a:solidFill>
                <a:latin typeface="Century Schoolbook"/>
                <a:ea typeface="Arial"/>
              </a:rPr>
              <a:t>МБОУ СОШ № 4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70c0"/>
                </a:solidFill>
                <a:latin typeface="Century Schoolbook"/>
                <a:ea typeface="Arial"/>
              </a:rPr>
              <a:t>                                  </a:t>
            </a:r>
            <a:r>
              <a:rPr b="1" lang="ru-RU" sz="1900" spc="-1" strike="noStrike">
                <a:solidFill>
                  <a:srgbClr val="0070c0"/>
                </a:solidFill>
                <a:latin typeface="Century Schoolbook"/>
                <a:ea typeface="Arial"/>
              </a:rPr>
              <a:t>2024 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"/>
          <p:cNvSpPr/>
          <p:nvPr/>
        </p:nvSpPr>
        <p:spPr>
          <a:xfrm>
            <a:off x="357120" y="1785960"/>
            <a:ext cx="79297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еранкина А.Г. Практикум по дактильной речи. – М.: «Просвещение», 1972. – 64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йцева Г.Л. Дактилология. Жестовая речь. – М.: «Просвещение», 1991. – 159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йцева Г.Л. Жестовая речь. Дактилология. – М.: «ВЛАДОС», 2000. – 192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2"/>
          <p:cNvSpPr/>
          <p:nvPr/>
        </p:nvSpPr>
        <p:spPr>
          <a:xfrm>
            <a:off x="2000160" y="78588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 Black"/>
                <a:ea typeface="Arial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http://www.pics-zone.ru/img.php?url=http://my-ivanovo.ru/wp-content/uploads/2012/12/125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786280" y="4071960"/>
            <a:ext cx="221472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684360" y="54936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 Black"/>
                <a:ea typeface="Arial"/>
              </a:rPr>
              <a:t>РАЗГОВОР ПРИ ПОМОЩИ ПАЛЬЦ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"/>
          <p:cNvSpPr/>
          <p:nvPr/>
        </p:nvSpPr>
        <p:spPr>
          <a:xfrm>
            <a:off x="684360" y="1773360"/>
            <a:ext cx="7673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ктильный (от греч. dactilos – палец) алфавит – это алфавит, воспроизведенный пальцами руки (рук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ктильная речь – это общение при помощи ручной азб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6" descr="http://www.pandia.ru/wp-content/uploads/2012/01/01/image001.png"/>
          <p:cNvPicPr/>
          <p:nvPr/>
        </p:nvPicPr>
        <p:blipFill>
          <a:blip r:embed="rId1"/>
          <a:stretch/>
        </p:blipFill>
        <p:spPr>
          <a:xfrm>
            <a:off x="5072040" y="4286160"/>
            <a:ext cx="276228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4"/>
          <p:cNvSpPr/>
          <p:nvPr/>
        </p:nvSpPr>
        <p:spPr>
          <a:xfrm>
            <a:off x="214200" y="1285920"/>
            <a:ext cx="821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Кто первый изобрел дактильный алфавит, точно не установлено. Известно, что изображения пальцевых букв встречаются уже в латинской Библии Х в. Возможно, некоторыми ручными знаками, в том числе и буквами, пользовались уже в древности. Исследователи считают, что впервые дактильный алфавит опубликован в 1593 г. испанским монахом де Вебра. Дактильную речь в обучении глухих начал применять испанский монах Педро Понсе де Лион, деятельность которого относится к XVI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5"/>
          <p:cNvSpPr/>
          <p:nvPr/>
        </p:nvSpPr>
        <p:spPr>
          <a:xfrm>
            <a:off x="1857240" y="50004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 Black"/>
                <a:ea typeface="Arial"/>
              </a:rPr>
              <a:t>КТО ПЕРВЫ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928880" y="3714840"/>
            <a:ext cx="48578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рямоугольник 1"/>
          <p:cNvSpPr/>
          <p:nvPr/>
        </p:nvSpPr>
        <p:spPr>
          <a:xfrm>
            <a:off x="500040" y="428760"/>
            <a:ext cx="7929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пециальный дактильный алфавит, созданный для обучения глухих, был опубликован в 1629 г. Бонетом (J. P. Bonet). Дактильная азбука Бонета в XVIII в. была положена в основу французского дактильного алфавита первыми учителями глухих во Франции — Перейра (R. Pereira) и Делепе (Ch. M. De L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’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Epee), а также американского дактильного алфавита, разработанного в начале XIX в. Галлодетом (Т.Н. Gallaudet) и Клерком (L. Clerc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" descr="Безымянный"/>
          <p:cNvPicPr/>
          <p:nvPr/>
        </p:nvPicPr>
        <p:blipFill>
          <a:blip r:embed="rId1"/>
          <a:srcRect l="0" t="0" r="-23" b="78"/>
          <a:stretch/>
        </p:blipFill>
        <p:spPr>
          <a:xfrm>
            <a:off x="2000160" y="2643120"/>
            <a:ext cx="47721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2"/>
          <p:cNvSpPr/>
          <p:nvPr/>
        </p:nvSpPr>
        <p:spPr>
          <a:xfrm>
            <a:off x="214200" y="500040"/>
            <a:ext cx="707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 Black"/>
                <a:ea typeface="Arial"/>
              </a:rPr>
              <a:t>АНГЛИЙСКИЙ ДАКТИЛЬНЫЙ АЛФАВИТ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rial Black"/>
                <a:ea typeface="Arial"/>
              </a:rPr>
              <a:t>(ДВУРУЧНЫ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" descr="http://images.buya.com/production/Images/MFG/Z27/e4/39/2eefb20e4a97bde45c68db7d68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7143840" y="642960"/>
            <a:ext cx="1500120" cy="1077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Безымянный"/>
          <p:cNvPicPr/>
          <p:nvPr/>
        </p:nvPicPr>
        <p:blipFill>
          <a:blip r:embed="rId2"/>
          <a:srcRect l="0" t="0" r="59572" b="85715"/>
          <a:stretch/>
        </p:blipFill>
        <p:spPr>
          <a:xfrm>
            <a:off x="571680" y="2500200"/>
            <a:ext cx="7572240" cy="34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1071720" y="2000160"/>
            <a:ext cx="6572160" cy="412452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2"/>
          <p:cNvSpPr/>
          <p:nvPr/>
        </p:nvSpPr>
        <p:spPr>
          <a:xfrm>
            <a:off x="214200" y="500040"/>
            <a:ext cx="65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 Black"/>
                <a:ea typeface="Arial"/>
              </a:rPr>
              <a:t>КИТАЙСКАЯ СЛОГОВАЯ ДАКТИЛЬНАЯ АЗБ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http://www.azstreaming.com/images/flags/original-china.pn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6858000" y="500040"/>
            <a:ext cx="182232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F:\РАБОТА\Школа\Kak_obyasnit_prosteyshie_zhesty.png"/>
          <p:cNvPicPr/>
          <p:nvPr/>
        </p:nvPicPr>
        <p:blipFill>
          <a:blip r:embed="rId1"/>
          <a:stretch/>
        </p:blipFill>
        <p:spPr>
          <a:xfrm>
            <a:off x="4071960" y="1643040"/>
            <a:ext cx="3997440" cy="47862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2"/>
          <p:cNvSpPr/>
          <p:nvPr/>
        </p:nvSpPr>
        <p:spPr>
          <a:xfrm>
            <a:off x="714240" y="35712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 Black"/>
                <a:ea typeface="Arial"/>
              </a:rPr>
              <a:t>РУССКИЙ ДАКТИЛЬНЫЙ АЛФАВ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5"/>
          <p:cNvSpPr/>
          <p:nvPr/>
        </p:nvSpPr>
        <p:spPr>
          <a:xfrm>
            <a:off x="285840" y="4643280"/>
            <a:ext cx="3143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дактильный алфавит был опубликован в первой русской книге об обучении глухих – «Глухонемые» (автор – В.И. Флери), вышедшей в Петербурге в 1835 го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6" descr="Безымянный"/>
          <p:cNvPicPr/>
          <p:nvPr/>
        </p:nvPicPr>
        <p:blipFill>
          <a:blip r:embed="rId2"/>
          <a:srcRect l="0" t="0" r="137" b="161"/>
          <a:stretch/>
        </p:blipFill>
        <p:spPr>
          <a:xfrm>
            <a:off x="785880" y="1785960"/>
            <a:ext cx="20001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4"/>
          <p:cNvSpPr/>
          <p:nvPr/>
        </p:nvSpPr>
        <p:spPr>
          <a:xfrm>
            <a:off x="357120" y="1643040"/>
            <a:ext cx="7715160" cy="44290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1"/>
          <p:cNvSpPr/>
          <p:nvPr/>
        </p:nvSpPr>
        <p:spPr>
          <a:xfrm>
            <a:off x="500040" y="1643040"/>
            <a:ext cx="7429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ктилирование надо производить правой /левой ру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ть руки должна быть обращена ладонью к собеседн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дактилировании рука, согнутая в локте, выносится вперёд настолько, чтобы кисть руки заняла удобное положение перед грудной клеткой, чуть ниже пле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следует делать лишних движений, замедляющих дактильный разговор и затрудняющих чтение с дактилирующей руки (при дактилировании должны двигаться в основном только пальцы кисти ру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ктильная речь должна быть чёткой, читаемой, слитной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ктильную речь следует сопровождать чётким произнесением соответствующе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7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 дактилирования должен максимально приближаться к темпу устной разговорной реч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2"/>
          <p:cNvSpPr/>
          <p:nvPr/>
        </p:nvSpPr>
        <p:spPr>
          <a:xfrm>
            <a:off x="1000080" y="28584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 Black"/>
                <a:ea typeface="Arial"/>
              </a:rPr>
              <a:t>ПРАВИЛА ДАКТИЛ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3"/>
          <p:cNvSpPr/>
          <p:nvPr/>
        </p:nvSpPr>
        <p:spPr>
          <a:xfrm>
            <a:off x="571680" y="785880"/>
            <a:ext cx="7500600" cy="528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1"/>
          <p:cNvSpPr/>
          <p:nvPr/>
        </p:nvSpPr>
        <p:spPr>
          <a:xfrm>
            <a:off x="785880" y="928800"/>
            <a:ext cx="7000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дактилирования должна придерживаться на неизменно высоком уров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9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ктилировать надо синхронно с устным проговарив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0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мп дактилирования и проговаривания необходимо определять в зависимости от словесного материала, уровня развития воспринимающих дактильную речь, состояния навыков чтения с дактилирующей р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иболее чётко передаются те дактильные знаки, которые имеют между собой внешнее сходство (ъ-ь-г, ж-ф-е, э-х-с, щ-ш-ц, к-п-ц, п-л, т-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ктилировать необходимо слева направо, делая небольшие паузы между буквами, словами и предлож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ловах с удвоенными согласными следует чётко дактилировать обе согласные, делая между ними пау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4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жносокращённые слова надо дактилировать чётко, выразительно и с паузами между буквами (РГ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11:53:10Z</dcterms:created>
  <dc:creator>ЛаПу</dc:creator>
  <dc:description/>
  <dc:language>en-US</dc:language>
  <cp:lastModifiedBy>Интерактив 3</cp:lastModifiedBy>
  <dcterms:modified xsi:type="dcterms:W3CDTF">2025-02-06T05:00:02Z</dcterms:modified>
  <cp:revision>63</cp:revision>
  <dc:subject/>
  <dc:title>Дактильная  реч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0e0000000000010243100207f6000400038000</vt:lpwstr>
  </property>
</Properties>
</file>