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DCB7-560B-4E6C-A2B8-9B206B10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DFBB-4FE4-4B7C-A442-8C85E273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354E-B301-44D3-8DA5-26B40CE8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32D3-8612-4873-866C-061208AB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6C90-BDAC-4849-9E17-44661369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0C55-156B-4097-87AF-C390A49F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653C-9BCA-451F-95C2-F9323A46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C649-CBDD-4A2B-9748-DA6A4AE7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6C48-E192-4410-9369-FDBA479D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AFA3-3A9C-4749-A96B-1B063A41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7745-D50C-4F06-9EE2-7DA92120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A879-CBF9-481F-8935-5B97DC7A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9809-25E7-440F-995C-5AD017E7F1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11080" y="630000"/>
            <a:ext cx="10453680" cy="32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ингвистический подход в системе образования и воспитания учащихся с овз по слуху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559720" y="4916160"/>
            <a:ext cx="340056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Выполнила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учитель – дефектолог (сурдопедагог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Волчкова А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876920" y="6119640"/>
            <a:ext cx="270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ец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66840" y="495360"/>
            <a:ext cx="113155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ная жестовая реч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усваивается глухим ребенком непо­средственно в процессе общения с глухими. Система обозначений в этой речи отличается от языка слов. Объем словаря жестов зна­чительно уступает и количественно, и качественно языку слов (Р. М. Боскис, С. А. Зыков, Г. Л. Зайцева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ная словесная речь при таком высказывании не используетс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95280" y="168120"/>
            <a:ext cx="8194680" cy="8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ькирующая жестовая речь.</a:t>
            </a: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7560" y="1301400"/>
            <a:ext cx="1163628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ькирующая жестовая реч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кладывается и развивается под влиянием языка слов и подчиняется тем же грамматическим зако­номерностям. Язык слов становится орудием мышления глухого ребенка. В процессе обучения глухих детей язык жестов обогащается и развивается. Глухие в жестовой речи стремятся выразить то, что ими приобретено в языке слов. Калькирующая же­стовая речь – это вторичная знаковая система, которая усваивает­ся на базе и в процессе изучения глухими детьми словесной речи. Жесты становятся эквивалентами слов, а порядок их следования – такой же, как в предложении, т. е. этот вид речи калькирует линг­вистическую структуру словесного языка. Жесты сопровождают уст­ную речь говоряще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111-3\Desktop\Жесты Зауру\2.jpg"/>
          <p:cNvPicPr/>
          <p:nvPr/>
        </p:nvPicPr>
        <p:blipFill>
          <a:blip r:embed="rId1"/>
          <a:srcRect l="11797" t="11593" r="64171" b="61933"/>
          <a:stretch/>
        </p:blipFill>
        <p:spPr>
          <a:xfrm>
            <a:off x="4362480" y="2533680"/>
            <a:ext cx="3448080" cy="3971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111-3\Desktop\Жесты Зауру\2.jpg"/>
          <p:cNvPicPr/>
          <p:nvPr/>
        </p:nvPicPr>
        <p:blipFill>
          <a:blip r:embed="rId2"/>
          <a:srcRect l="36113" t="11593" r="40322" b="61933"/>
          <a:stretch/>
        </p:blipFill>
        <p:spPr>
          <a:xfrm>
            <a:off x="8394840" y="307800"/>
            <a:ext cx="3360600" cy="3984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111-3\Desktop\Жесты Зауру\2.jpg"/>
          <p:cNvPicPr/>
          <p:nvPr/>
        </p:nvPicPr>
        <p:blipFill>
          <a:blip r:embed="rId3"/>
          <a:srcRect l="59612" t="11593" r="15042" b="61933"/>
          <a:stretch/>
        </p:blipFill>
        <p:spPr>
          <a:xfrm>
            <a:off x="414360" y="304920"/>
            <a:ext cx="3435480" cy="400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111-3\Desktop\Жесты Зауру\2.jpg"/>
          <p:cNvPicPr/>
          <p:nvPr/>
        </p:nvPicPr>
        <p:blipFill>
          <a:blip r:embed="rId1"/>
          <a:srcRect l="3534" t="37440" r="2272" b="6772"/>
          <a:stretch/>
        </p:blipFill>
        <p:spPr>
          <a:xfrm>
            <a:off x="0" y="-19080"/>
            <a:ext cx="12192120" cy="687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одержимое 4" descr=""/>
          <p:cNvPicPr/>
          <p:nvPr/>
        </p:nvPicPr>
        <p:blipFill>
          <a:blip r:embed="rId1"/>
          <a:stretch/>
        </p:blipFill>
        <p:spPr>
          <a:xfrm>
            <a:off x="4422600" y="3583080"/>
            <a:ext cx="7121880" cy="29304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"/>
          <p:cNvPicPr/>
          <p:nvPr/>
        </p:nvPicPr>
        <p:blipFill>
          <a:blip r:embed="rId2"/>
          <a:stretch/>
        </p:blipFill>
        <p:spPr>
          <a:xfrm>
            <a:off x="426960" y="351000"/>
            <a:ext cx="7023240" cy="2841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4" descr=""/>
          <p:cNvPicPr/>
          <p:nvPr/>
        </p:nvPicPr>
        <p:blipFill>
          <a:blip r:embed="rId1"/>
          <a:stretch/>
        </p:blipFill>
        <p:spPr>
          <a:xfrm>
            <a:off x="4781520" y="3492360"/>
            <a:ext cx="6815160" cy="28940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"/>
          <p:cNvPicPr/>
          <p:nvPr/>
        </p:nvPicPr>
        <p:blipFill>
          <a:blip r:embed="rId2"/>
          <a:stretch/>
        </p:blipFill>
        <p:spPr>
          <a:xfrm>
            <a:off x="423720" y="293760"/>
            <a:ext cx="7626600" cy="3003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111-3\Desktop\Жесты Зауру\101.gif"/>
          <p:cNvPicPr/>
          <p:nvPr/>
        </p:nvPicPr>
        <p:blipFill>
          <a:blip r:embed="rId1"/>
          <a:stretch/>
        </p:blipFill>
        <p:spPr>
          <a:xfrm>
            <a:off x="4842000" y="3747960"/>
            <a:ext cx="6730920" cy="25052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3" name="Рисунок 5" descr=""/>
          <p:cNvPicPr/>
          <p:nvPr/>
        </p:nvPicPr>
        <p:blipFill>
          <a:blip r:embed="rId2"/>
          <a:stretch/>
        </p:blipFill>
        <p:spPr>
          <a:xfrm>
            <a:off x="227160" y="241200"/>
            <a:ext cx="9066240" cy="3237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4" descr=""/>
          <p:cNvPicPr/>
          <p:nvPr/>
        </p:nvPicPr>
        <p:blipFill>
          <a:blip r:embed="rId1"/>
          <a:stretch/>
        </p:blipFill>
        <p:spPr>
          <a:xfrm>
            <a:off x="374760" y="314280"/>
            <a:ext cx="11422080" cy="6130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одержимое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84040" y="283680"/>
            <a:ext cx="11647440" cy="63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"</a:t>
            </a:r>
            <a:r>
              <a:rPr b="1" lang="ru-RU" sz="8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Самая  крупная роскошь </a:t>
            </a:r>
            <a:br>
              <a:rPr sz="8800"/>
            </a:br>
            <a:r>
              <a:rPr b="1" lang="ru-RU" sz="8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на земле – роскошь </a:t>
            </a:r>
            <a:br>
              <a:rPr sz="8800"/>
            </a:br>
            <a:r>
              <a:rPr b="1" lang="ru-RU" sz="8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человеческого общения". 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7200"/>
            </a:br>
            <a:r>
              <a:rPr b="0" lang="ru-RU" sz="5400" spc="-1" strike="noStrike">
                <a:solidFill>
                  <a:srgbClr val="10253f"/>
                </a:solidFill>
                <a:latin typeface="Calibri"/>
              </a:rPr>
              <a:t>Антуан де Сент-Экзюпер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360" y="387000"/>
            <a:ext cx="114998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средства коммуникации лиц с нарушением слуха: дактильная речь, жестовая речь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0360" y="2398680"/>
            <a:ext cx="8153280" cy="415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средствами общения глухих и слабослышащих является вербальная и невербальная коммуникации.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бальные средства коммуникации– общение с помощью слова (письмо, чтение) и дактилолог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ербальные средства коммуникации– мимика, жесты, рисунки, схемы, пиктограммы, (балет, музыка, изо и т.д. – это тоже своеобразное общение). Основная для неслышащих – жестовая реч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Объект 6" descr=""/>
          <p:cNvPicPr/>
          <p:nvPr/>
        </p:nvPicPr>
        <p:blipFill>
          <a:blip r:embed="rId1"/>
          <a:stretch/>
        </p:blipFill>
        <p:spPr>
          <a:xfrm>
            <a:off x="8888400" y="2533680"/>
            <a:ext cx="2941560" cy="3567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04400" y="556920"/>
            <a:ext cx="1042524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ктилология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Объект 4" descr=""/>
          <p:cNvPicPr/>
          <p:nvPr/>
        </p:nvPicPr>
        <p:blipFill>
          <a:blip r:embed="rId1"/>
          <a:srcRect l="6439" t="0" r="7294" b="0"/>
          <a:stretch/>
        </p:blipFill>
        <p:spPr>
          <a:xfrm>
            <a:off x="279360" y="1214280"/>
            <a:ext cx="3917880" cy="4556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55960" y="1498320"/>
            <a:ext cx="699588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ктилология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альцевая азбука (дактиль – палец; дактилемма – буква алфавита) - средство вербальной коммуник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ально дактильный алфавит  был опубликован в конце 16 в испанским монахом Де Вебро. Педро Понсо де Леон (исп. монах) – первый сурдопсихолог- начал использовать дактильный алфавит в обучении. В 16 веке его ученики научились не только говорить, но и говорить на разных языках, научились читать, писать (но методика утерян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26г– Алфавит опубликован Баннет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 веке во Франции Шарль де Лепе (и Перейро - первые сурдопедагоги) – заложили основу обучения глух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Объект 4" descr=""/>
          <p:cNvPicPr/>
          <p:nvPr/>
        </p:nvPicPr>
        <p:blipFill>
          <a:blip r:embed="rId1"/>
          <a:stretch/>
        </p:blipFill>
        <p:spPr>
          <a:xfrm>
            <a:off x="7180200" y="2593800"/>
            <a:ext cx="4572000" cy="3757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49120" y="2412720"/>
            <a:ext cx="615168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ктильная речь является вспомогательной при обучении детей словесной речи. Легко воспринимается, ребенок видит каждый элемент слова и может проверить себя, сопоставив свою речь и педагога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ктильная речь помогает овладевать членораздельной речью и грамматическим строем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749160" y="496800"/>
            <a:ext cx="1094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ктильная речь- движения рук, обозначают буквы алфавита, жестовая –явления окружающего мир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63520" y="339480"/>
            <a:ext cx="11693520" cy="59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а дактилиров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Обязательно сопровождается проговариванием, кисть не должна закрывать рот, кисть на уровне плеча, локоть неподвижен, кисть в постоянном движен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Необходжимо дактилировать  приближенно к темпу говор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Дактилирование подчинено правилам орфографии, при этом проговаривается по правилам орфоэп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Объект 4" descr=""/>
          <p:cNvPicPr/>
          <p:nvPr/>
        </p:nvPicPr>
        <p:blipFill>
          <a:blip r:embed="rId1"/>
          <a:stretch/>
        </p:blipFill>
        <p:spPr>
          <a:xfrm>
            <a:off x="6251400" y="665280"/>
            <a:ext cx="5137200" cy="5556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74760" y="1018800"/>
            <a:ext cx="54864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актилемы бываю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рисовывающ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ртания буквы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словны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75800" y="498240"/>
            <a:ext cx="109998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и дактильной речи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применяется в межличностной коммуникации глухих. В условиях непринужденного неофициального общения глухие, как правило, пользуются жестовой речью. Однако в жестовые высказывания включаются и дактильные слова и словосочетания: имена собственные, и т. д. Дактильные знаки дополняют калькирующую жестовую речь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нии слышащих (педагогов, родителей и др.) и глухих. Глухой, стараясь помочь слышащему понять то, что он сказал устно, может продактилировать для большей разборчивости.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2280" y="442440"/>
            <a:ext cx="11139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стовая речь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4" descr=""/>
          <p:cNvPicPr/>
          <p:nvPr/>
        </p:nvPicPr>
        <p:blipFill>
          <a:blip r:embed="rId1"/>
          <a:stretch/>
        </p:blipFill>
        <p:spPr>
          <a:xfrm>
            <a:off x="674640" y="2068560"/>
            <a:ext cx="4632480" cy="36129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81480" y="1558800"/>
            <a:ext cx="5570280" cy="52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стовая речь (невербальное средство коммуникации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бывает двух видов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лькирующая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 повторяет лингвистическую структуру словесного языка. Это вторичная знаковая система. Жесты сопровождают устную речь говорящего. Каждый жест-слово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сская жестовая речь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истема общения, обладает собственной лексикой и грамматико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10T13:33:23Z</dcterms:created>
  <dc:creator>Воробьёва Ирина Карловна</dc:creator>
  <dc:description/>
  <dc:language>en-US</dc:language>
  <cp:lastModifiedBy>Надежда</cp:lastModifiedBy>
  <dcterms:modified xsi:type="dcterms:W3CDTF">2022-05-14T16:19:24Z</dcterms:modified>
  <cp:revision>21</cp:revision>
  <dc:subject/>
  <dc:title>Билингвистический подход в системе образования и воспитания учащихся с овз по слуху</dc:title>
</cp:coreProperties>
</file>